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9E34-7C76-4605-9EF8-F4354C1CE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68a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B926-F7B8-4FDC-9CC5-EE23E631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68a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83AD-C0BE-4069-A13A-B31A4DF65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68a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3F0F-9E0D-4E82-9B6C-79A1D37A5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6492B-6D37-44F1-9189-7FAC8DA68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68a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0EAF-D801-42FF-8B4D-A0E9AF32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68a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8132-4EFF-4DE6-9739-DBC18029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68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3477-A89A-4656-909B-DB0EB295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68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90CE-9A83-4F65-ABC6-A12324C8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B904-9878-438B-B1C7-A386EB66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68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B5420-7604-4046-A9FD-8B61554C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68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1329-7ED5-44E0-BF45-C589086C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68a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D014-BE82-4804-A50D-ADBE65EE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68a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D51C-7517-4663-82D2-E99D3D49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68a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367E-2DEA-4C01-A989-D2E2102B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68a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15C9A-8252-4736-80F6-8A35AFD7B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68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D722-8EBA-4E47-86DA-834EC523B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68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7E8E-7090-444E-89C1-8CAABE7D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68a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D290-035C-46B1-8FF3-717C9D95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68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8668-5BF8-4D56-8DD8-CF0EB3F9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35D5-367A-4DDA-B7DB-D860AF4C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68a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FCDA-B3CF-409A-BBAF-66902BD7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68a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9515-74D5-462B-8BEA-EDFC1558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68a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2210-FFFA-48D7-B2E4-95FD543A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4021"/>
            </a:gs>
            <a:gs pos="100000">
              <a:srgbClr val="54643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b462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f29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5a2f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5a2f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572d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572d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542c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542c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512a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512a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f29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c27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c27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c27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c27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c27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c27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c27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5a2f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5a2f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542c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572d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c27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f29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f29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f29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16032"/>
                    </a:gs>
                    <a:gs pos="100000">
                      <a:srgbClr val="3943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16032"/>
                    </a:gs>
                    <a:gs pos="100000">
                      <a:srgbClr val="3943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16032"/>
                    </a:gs>
                    <a:gs pos="100000">
                      <a:srgbClr val="3943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16032"/>
                    </a:gs>
                    <a:gs pos="100000">
                      <a:srgbClr val="3943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16032"/>
                    </a:gs>
                    <a:gs pos="100000">
                      <a:srgbClr val="3943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16032"/>
                    </a:gs>
                    <a:gs pos="100000">
                      <a:srgbClr val="3943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16032"/>
                    </a:gs>
                    <a:gs pos="100000">
                      <a:srgbClr val="3943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16032"/>
                    </a:gs>
                    <a:gs pos="100000">
                      <a:srgbClr val="3943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16032"/>
                    </a:gs>
                    <a:gs pos="100000">
                      <a:srgbClr val="3943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16032"/>
                    </a:gs>
                    <a:gs pos="100000">
                      <a:srgbClr val="3943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16032"/>
                    </a:gs>
                    <a:gs pos="100000">
                      <a:srgbClr val="3943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16032"/>
                    </a:gs>
                    <a:gs pos="100000">
                      <a:srgbClr val="3943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16032"/>
                    </a:gs>
                    <a:gs pos="100000">
                      <a:srgbClr val="3943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16032"/>
                    </a:gs>
                    <a:gs pos="100000">
                      <a:srgbClr val="3943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16032"/>
                    </a:gs>
                    <a:gs pos="100000">
                      <a:srgbClr val="3943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414e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414e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94323"/>
                    </a:gs>
                    <a:gs pos="100000">
                      <a:srgbClr val="5160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94323"/>
                    </a:gs>
                    <a:gs pos="100000">
                      <a:srgbClr val="5160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94323"/>
                    </a:gs>
                    <a:gs pos="100000">
                      <a:srgbClr val="5160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94323"/>
                    </a:gs>
                    <a:gs pos="100000">
                      <a:srgbClr val="5160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94323"/>
                    </a:gs>
                    <a:gs pos="100000">
                      <a:srgbClr val="5160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94323"/>
                    </a:gs>
                    <a:gs pos="100000">
                      <a:srgbClr val="5160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94323"/>
                    </a:gs>
                    <a:gs pos="100000">
                      <a:srgbClr val="5160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94323"/>
                    </a:gs>
                    <a:gs pos="100000">
                      <a:srgbClr val="5160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94323"/>
                    </a:gs>
                    <a:gs pos="100000">
                      <a:srgbClr val="5160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4323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414e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414e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414e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4323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14e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414e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414e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68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68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F380-8725-4ECB-B89A-393BFBAFC6E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68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2b68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2b68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4021"/>
            </a:gs>
            <a:gs pos="100000">
              <a:srgbClr val="54643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46434"/>
                </a:gs>
                <a:gs pos="100000">
                  <a:srgbClr val="3b462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f29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5a2f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5a2f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572d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572d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542c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542c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512a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512a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f29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c27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c27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c27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c27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c27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c27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c27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5a2f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5a2f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542c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572d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c27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f29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f29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f29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16032"/>
                    </a:gs>
                    <a:gs pos="100000">
                      <a:srgbClr val="3943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16032"/>
                    </a:gs>
                    <a:gs pos="100000">
                      <a:srgbClr val="3943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16032"/>
                    </a:gs>
                    <a:gs pos="100000">
                      <a:srgbClr val="3943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16032"/>
                    </a:gs>
                    <a:gs pos="100000">
                      <a:srgbClr val="3943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16032"/>
                    </a:gs>
                    <a:gs pos="100000">
                      <a:srgbClr val="3943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16032"/>
                    </a:gs>
                    <a:gs pos="100000">
                      <a:srgbClr val="3943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16032"/>
                    </a:gs>
                    <a:gs pos="100000">
                      <a:srgbClr val="3943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16032"/>
                    </a:gs>
                    <a:gs pos="100000">
                      <a:srgbClr val="3943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16032"/>
                    </a:gs>
                    <a:gs pos="100000">
                      <a:srgbClr val="3943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16032"/>
                    </a:gs>
                    <a:gs pos="100000">
                      <a:srgbClr val="3943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16032"/>
                    </a:gs>
                    <a:gs pos="100000">
                      <a:srgbClr val="3943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16032"/>
                    </a:gs>
                    <a:gs pos="100000">
                      <a:srgbClr val="3943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16032"/>
                    </a:gs>
                    <a:gs pos="100000">
                      <a:srgbClr val="3943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16032"/>
                    </a:gs>
                    <a:gs pos="100000">
                      <a:srgbClr val="3943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16032"/>
                    </a:gs>
                    <a:gs pos="100000">
                      <a:srgbClr val="3943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414e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414e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94323"/>
                    </a:gs>
                    <a:gs pos="100000">
                      <a:srgbClr val="5160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94323"/>
                    </a:gs>
                    <a:gs pos="100000">
                      <a:srgbClr val="5160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94323"/>
                    </a:gs>
                    <a:gs pos="100000">
                      <a:srgbClr val="5160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94323"/>
                    </a:gs>
                    <a:gs pos="100000">
                      <a:srgbClr val="5160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94323"/>
                    </a:gs>
                    <a:gs pos="100000">
                      <a:srgbClr val="5160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94323"/>
                    </a:gs>
                    <a:gs pos="100000">
                      <a:srgbClr val="5160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94323"/>
                    </a:gs>
                    <a:gs pos="100000">
                      <a:srgbClr val="5160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94323"/>
                    </a:gs>
                    <a:gs pos="100000">
                      <a:srgbClr val="5160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94323"/>
                    </a:gs>
                    <a:gs pos="100000">
                      <a:srgbClr val="5160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4323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414e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414e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414e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4323"/>
                  </a:gs>
                  <a:gs pos="100000">
                    <a:srgbClr val="5160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14e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414e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414e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68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68a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68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2b68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2b68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8F1F-ACAF-4EBE-B0B9-4139ED6C93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athspa.ac.uk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vcc.edu/home/lshulman/relignIs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447920"/>
            <a:ext cx="8226360" cy="1218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68a"/>
                </a:solidFill>
                <a:latin typeface="Arial"/>
              </a:rPr>
              <a:t>So.  What is “religion”?</a:t>
            </a:r>
            <a:endParaRPr b="0" lang="en-US" sz="5400" spc="-1" strike="noStrike">
              <a:solidFill>
                <a:srgbClr val="b2b68a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d by Mrs. Dav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obal Stu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68a"/>
                </a:solidFill>
                <a:latin typeface="Arial"/>
              </a:rPr>
              <a:t>Assignment:</a:t>
            </a:r>
            <a:endParaRPr b="0" lang="en-US" sz="4400" spc="-1" strike="noStrike">
              <a:solidFill>
                <a:srgbClr val="b2b68a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68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d over the positions on relig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68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I - Pick a position that you feel either best suits your personal definition of what religion is or one that is most opposite of your personal defini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68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2 – Pick a position that you feel best describes how the majority of people in the world feel about religion.  This may be different from your own vie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68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 each answer in a well thought out paragraph.  You’ll end up with two full paragraphs after you are done with the assignment.  For the record, a well thought out paragraph will NOT be a sentence. 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560" y="28191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68a"/>
                </a:solidFill>
                <a:latin typeface="Arial"/>
              </a:rPr>
              <a:t>According to Michael Young of Bath Spa University College in Bath, England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b2b68a"/>
                </a:solidFill>
                <a:latin typeface="Arial"/>
              </a:rPr>
              <a:t>“Religion is a share positing of the identity of and relationship between the world, humanity and the supernatural in terms of meaning assignment, value allocation and validation enactment.  A religion need not accept or believe in the supernatural, but it takes a position on it.  Likewise, some religions deny the reality or at least value of the world, but they still take a position on it.”</a:t>
            </a:r>
            <a:endParaRPr b="0" lang="en-US" sz="3200" spc="-1" strike="noStrike">
              <a:solidFill>
                <a:srgbClr val="b2b68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30477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80c579"/>
                </a:solidFill>
                <a:uFillTx/>
                <a:latin typeface="Arial"/>
                <a:hlinkClick r:id="rId1"/>
              </a:rPr>
              <a:t>Bath Spa University Really Exists...so there!</a:t>
            </a:r>
            <a:endParaRPr b="0" lang="en-US" sz="4000" spc="-1" strike="noStrike">
              <a:solidFill>
                <a:srgbClr val="b2b68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68a"/>
                </a:solidFill>
                <a:latin typeface="Arial"/>
              </a:rPr>
              <a:t>Okay…</a:t>
            </a:r>
            <a:endParaRPr b="0" lang="en-US" sz="5400" spc="-1" strike="noStrike">
              <a:solidFill>
                <a:srgbClr val="b2b68a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at does that mea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68a"/>
                </a:solidFill>
                <a:latin typeface="Arial"/>
              </a:rPr>
              <a:t>According to www.religioustolerance.org:</a:t>
            </a:r>
            <a:endParaRPr b="0" lang="en-US" sz="4000" spc="-1" strike="noStrike">
              <a:solidFill>
                <a:srgbClr val="b2b68a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igion is any specific system of belief about deity, often involving rituals, a code of ethics, a philosophy of life, and a worldvie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274284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68a"/>
                </a:solidFill>
                <a:latin typeface="Arial"/>
              </a:rPr>
              <a:t>Another way to answer the question is to find common factors among different religions.</a:t>
            </a:r>
            <a:endParaRPr b="0" lang="en-US" sz="4000" spc="-1" strike="noStrike">
              <a:solidFill>
                <a:srgbClr val="b2b68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68a"/>
                </a:solidFill>
                <a:latin typeface="Arial"/>
              </a:rPr>
              <a:t>Common Factors:</a:t>
            </a:r>
            <a:endParaRPr b="0" lang="en-US" sz="4400" spc="-1" strike="noStrike">
              <a:solidFill>
                <a:srgbClr val="b2b68a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68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ief in something sacred (gods, texts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68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inction between sacred and profane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68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tual acts focused on sacred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68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al code believed to have a sacred or supernatural b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68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cteristically religious feelings (awe, guilt) which tend to surface in the presence of sacred objects and during the practice of ritu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68a"/>
                </a:solidFill>
                <a:latin typeface="Arial"/>
              </a:rPr>
              <a:t>Factors (continued)</a:t>
            </a:r>
            <a:endParaRPr b="0" lang="en-US" sz="4400" spc="-1" strike="noStrike">
              <a:solidFill>
                <a:srgbClr val="b2b68a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68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yer and other forms of communication with the supernatu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68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orldview or general picture of the world and how the individual fits into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68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ation of one’s life based upon world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68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ocial group bound by the ab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80c579"/>
                </a:solidFill>
                <a:uFillTx/>
                <a:latin typeface="Arial"/>
                <a:hlinkClick r:id="rId1"/>
              </a:rPr>
              <a:t>What is religion?</a:t>
            </a:r>
            <a:endParaRPr b="0" lang="en-US" sz="4400" spc="-1" strike="noStrike">
              <a:solidFill>
                <a:srgbClr val="b2b68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19:09:16Z</dcterms:created>
  <dc:creator>DaviesL</dc:creator>
  <dc:description/>
  <dc:language>en-US</dc:language>
  <cp:lastModifiedBy>McFaddeR</cp:lastModifiedBy>
  <dcterms:modified xsi:type="dcterms:W3CDTF">2009-08-25T13:44:18Z</dcterms:modified>
  <cp:revision>5</cp:revision>
  <dc:subject/>
  <dc:title>So.  What is “religion”?</dc:title>
</cp:coreProperties>
</file>